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3187-B47A-4584-A2EC-ADD188F45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BA37-EADC-42C4-8C72-9C982B1C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FB10-8D3C-410B-9943-521ED57A8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C1C0-76FB-455E-82DF-0CC5E5453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4C69-8AF7-4674-B727-B11C593F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C2F2-763F-4673-95C4-82A5198D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967E-9BB6-4EF1-AEEA-0887F9DD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CF48-DD3D-48DA-8E56-2726532A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C944-2CCE-49B9-9B59-1DA49588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F191-3D6F-4ABA-B1E2-4D7E3789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A698-E1F9-48C6-B020-391CD219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5396-90C7-4380-A211-62DB130C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B5ED-D73A-4646-BCFA-52A3FD1B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56D7-A8AE-4441-9010-6DFC809E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54BE-C97F-4205-83F3-72C39C7D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A650-2EF2-4465-9735-7CCFE70B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034E-B3E8-43BF-BD7E-DC384B7E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1322-ACFB-437A-9BA0-E9EF187F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845B-5287-4432-BB36-3FB99245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7A82-21C3-4C1C-A1C0-B8EF6CB3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5F06-C58C-43C3-9F31-4B9DF642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1D43-187B-4E24-AA9D-29C5C4D8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37EE-B4CF-417F-956D-A5D95D63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7F5A-7EF7-4070-8499-EE0F9E3D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Bookman Old Style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rnard MT Condensed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rnard MT Condensed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rnard MT Condensed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rnard MT Condensed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rnard MT Condensed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rnard MT Condensed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ernard MT Condensed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7145-CB7D-41F7-8832-4DAC2822FE5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Bookman Old Style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BE31-A785-4B4E-A5D3-553180AD3DC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ernard MT Condensed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ly.hiwaay.net/~wgann/survey/survey10.htm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ly.hiwaay.net/~wgann/survey/survey11.htm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Bookman Old Style"/>
              </a:rPr>
              <a:t>A Remnant Shall Return</a:t>
            </a:r>
            <a:endParaRPr b="0" lang="en-US" sz="50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nard MT Condensed"/>
              </a:rPr>
              <a:t>Quarter 8, Lesson 11</a:t>
            </a:r>
            <a:endParaRPr b="0" lang="en-US" sz="2800" spc="-1" strike="noStrike">
              <a:solidFill>
                <a:srgbClr val="000000"/>
              </a:solidFill>
              <a:latin typeface="Bernard MT Condense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nard MT Condensed"/>
              </a:rPr>
              <a:t>Pages74-79</a:t>
            </a:r>
            <a:endParaRPr b="0" lang="en-US" sz="2800" spc="-1" strike="noStrike">
              <a:solidFill>
                <a:srgbClr val="000000"/>
              </a:solidFill>
              <a:latin typeface="Bernard MT Condense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nard MT Condensed"/>
              </a:rPr>
              <a:t>Ezra 1 – 5:1; Haggai</a:t>
            </a:r>
            <a:endParaRPr b="0" lang="en-US" sz="28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p:transition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ff00"/>
                </a:solidFill>
                <a:latin typeface="Bookman Old Style"/>
              </a:rPr>
              <a:t>Summary of Haggai</a:t>
            </a: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Bernard MT Condensed"/>
              </a:rPr>
              <a:t>Call to Reform Their Priorities – 1:1-15</a:t>
            </a: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Bernard MT Condensed"/>
              </a:rPr>
              <a:t>Call to Rekindle Their Hope For a Better Temple In The Messianic Age – 2:1-9</a:t>
            </a: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Bernard MT Condensed"/>
              </a:rPr>
              <a:t>Call To Learn From The Mistakes of the Past and to Ponder A Glorious Future for The Faithful -2:10-23</a:t>
            </a: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p:transition>
    <p:plus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981080" y="304920"/>
            <a:ext cx="51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man Old Style"/>
              </a:rPr>
              <a:t>We Are Looking At This Slice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81480" y="4038480"/>
            <a:ext cx="609840" cy="2514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638680" y="4267080"/>
            <a:ext cx="2181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35-520 B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715000" y="5334120"/>
            <a:ext cx="2286000" cy="99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turn fro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aptivity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Bookman Old Style"/>
              </a:rPr>
              <a:t>Reviewing The Periods of Bible History</a:t>
            </a:r>
            <a:endParaRPr b="0" lang="en-US" sz="38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rnard MT Condensed"/>
              </a:rPr>
              <a:t>Creation</a:t>
            </a:r>
            <a:endParaRPr b="0" lang="en-US" sz="2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rnard MT Condensed"/>
              </a:rPr>
              <a:t>Flood</a:t>
            </a:r>
            <a:endParaRPr b="0" lang="en-US" sz="2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rnard MT Condensed"/>
              </a:rPr>
              <a:t>Scattering of the People</a:t>
            </a:r>
            <a:endParaRPr b="0" lang="en-US" sz="2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rnard MT Condensed"/>
              </a:rPr>
              <a:t>The Patriarchs</a:t>
            </a:r>
            <a:endParaRPr b="0" lang="en-US" sz="2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rnard MT Condensed"/>
              </a:rPr>
              <a:t>Exodus From Egypt</a:t>
            </a:r>
            <a:endParaRPr b="0" lang="en-US" sz="2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rnard MT Condensed"/>
              </a:rPr>
              <a:t>Wilderness Wandering</a:t>
            </a:r>
            <a:endParaRPr b="0" lang="en-US" sz="2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rnard MT Condensed"/>
              </a:rPr>
              <a:t>Conquest of the Land</a:t>
            </a:r>
            <a:endParaRPr b="0" lang="en-US" sz="2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rnard MT Condensed"/>
              </a:rPr>
              <a:t>Judges</a:t>
            </a:r>
            <a:endParaRPr b="0" lang="en-US" sz="2600" spc="-1" strike="noStrike">
              <a:solidFill>
                <a:srgbClr val="000000"/>
              </a:solidFill>
              <a:latin typeface="Bernard MT Condense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rnard MT Condensed"/>
              </a:rPr>
              <a:t>United Kingdom</a:t>
            </a:r>
            <a:endParaRPr b="0" lang="en-US" sz="2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rnard MT Condensed"/>
              </a:rPr>
              <a:t>Divided Kingdom</a:t>
            </a:r>
            <a:endParaRPr b="0" lang="en-US" sz="2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rnard MT Condensed"/>
              </a:rPr>
              <a:t>Judah Alone</a:t>
            </a:r>
            <a:endParaRPr b="0" lang="en-US" sz="2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rnard MT Condensed"/>
              </a:rPr>
              <a:t>Captivity</a:t>
            </a:r>
            <a:endParaRPr b="0" lang="en-US" sz="26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ernard MT Condensed"/>
              </a:rPr>
              <a:t>*</a:t>
            </a:r>
            <a:r>
              <a:rPr b="0" lang="en-US" sz="2600" spc="-1" strike="noStrike">
                <a:solidFill>
                  <a:srgbClr val="ffff00"/>
                </a:solidFill>
                <a:latin typeface="Bernard MT Condensed"/>
              </a:rPr>
              <a:t>Return from Captivity</a:t>
            </a:r>
            <a:endParaRPr b="0" lang="en-US" sz="26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p:transition>
    <p:plus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250" autoRev="1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0" dur="250" autoRev="1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" dur="250" autoRev="1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rot="10626600">
            <a:off x="2818800" y="4572000"/>
            <a:ext cx="1904760" cy="380880"/>
          </a:xfrm>
          <a:custGeom>
            <a:avLst/>
            <a:gdLst>
              <a:gd name="textAreaLeft" fmla="*/ 237960 w 1904760"/>
              <a:gd name="textAreaRight" fmla="*/ 1666800 w 1904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057400" y="304920"/>
            <a:ext cx="490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eturn From Captivity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lus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33520" y="125280"/>
            <a:ext cx="8153280" cy="66693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" y="52560"/>
            <a:ext cx="8229600" cy="67528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cc"/>
                </a:solidFill>
                <a:latin typeface="Bookman Old Style"/>
              </a:rPr>
              <a:t>Summary and Review</a:t>
            </a:r>
            <a:endParaRPr b="0" lang="en-US" sz="38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769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996600"/>
                </a:solidFill>
                <a:uFillTx/>
                <a:latin typeface="Arial Rounded MT Bold"/>
                <a:hlinkClick r:id="rId2"/>
              </a:rPr>
              <a:t>JUDAH ALONE AND CAPTIVITY</a:t>
            </a:r>
            <a:r>
              <a:rPr b="0" lang="en-US" sz="2500" spc="-1" strike="noStrike">
                <a:solidFill>
                  <a:srgbClr val="ffffff"/>
                </a:solidFill>
                <a:latin typeface="Arial Rounded MT Bold"/>
              </a:rPr>
              <a:t> -- 2 Kings 15-25 (721 - 536 BC) </a:t>
            </a:r>
            <a:endParaRPr b="0" lang="en-US" sz="25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Rounded MT Bold"/>
              </a:rPr>
              <a:t>1. Kings: Hezekiah, Josiah -- Prophets: Jeremiah, Daniel, Ezekiel </a:t>
            </a:r>
            <a:endParaRPr b="0" lang="en-US" sz="25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Rounded MT Bold"/>
              </a:rPr>
              <a:t>2. Judah captured by Babylon and captives taken away in three waves. </a:t>
            </a:r>
            <a:endParaRPr b="0" lang="en-US" sz="2500" spc="-1" strike="noStrike">
              <a:solidFill>
                <a:srgbClr val="000000"/>
              </a:solidFill>
              <a:latin typeface="Bernard MT Condensed"/>
            </a:endParaRPr>
          </a:p>
          <a:p>
            <a:pPr lvl="1" marL="669960" indent="-3254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Rounded MT Bold"/>
              </a:rPr>
              <a:t>(1) Daniel &amp; 3 friends taken (associated with government) 605 BC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Rounded MT Bold"/>
              </a:rPr>
              <a:t>(2) Ezekiel &amp; others taken (lived in colonies) 597 BC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Rounded MT Bold"/>
              </a:rPr>
              <a:t>(3) Temple and Jerusalem completely destroyed 586 BC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cc"/>
                </a:solidFill>
                <a:latin typeface="Bookman Old Style"/>
              </a:rPr>
              <a:t>Summary of Phases of Return</a:t>
            </a:r>
            <a:endParaRPr b="0" lang="en-US" sz="38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500" spc="-1" strike="noStrike" u="sng">
                <a:solidFill>
                  <a:srgbClr val="996600"/>
                </a:solidFill>
                <a:uFillTx/>
                <a:latin typeface="Arial Rounded MT Bold"/>
                <a:hlinkClick r:id="rId2"/>
              </a:rPr>
              <a:t>RESTORATION</a:t>
            </a:r>
            <a:r>
              <a:rPr b="1" lang="en-US" sz="25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Rounded MT Bold"/>
              </a:rPr>
              <a:t>-- (Return From Exile) -- Ezra Neh. Esther (536-400 BC) </a:t>
            </a:r>
            <a:endParaRPr b="0" lang="en-US" sz="25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Rounded MT Bold"/>
              </a:rPr>
              <a:t>1. Persia conquers Babylon and allows a re-nationalization of captives </a:t>
            </a:r>
            <a:endParaRPr b="0" lang="en-US" sz="2500" spc="-1" strike="noStrike">
              <a:solidFill>
                <a:srgbClr val="000000"/>
              </a:solidFill>
              <a:latin typeface="Bernard MT Condensed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Rounded MT Bold"/>
              </a:rPr>
              <a:t>2. Zerubabel rebuilds the Temple; Ezra restores the law; Nehemiah rebuilds the walls. Prophets: Haggai, Zechariah, Malachi. </a:t>
            </a:r>
            <a:endParaRPr b="0" lang="en-US" sz="25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p:transition>
    <p:plus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ff00"/>
                </a:solidFill>
                <a:latin typeface="Bookman Old Style"/>
              </a:rPr>
              <a:t>Summary of Today’s Lesson</a:t>
            </a:r>
            <a:endParaRPr b="0" lang="en-US" sz="4200" spc="-1" strike="noStrike">
              <a:solidFill>
                <a:srgbClr val="006633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Bernard MT Condensed"/>
              </a:rPr>
              <a:t>The Proclamation of Cyrus – 2 Chron.36:22-23; Ezra 1:1-4</a:t>
            </a: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Bernard MT Condensed"/>
              </a:rPr>
              <a:t>The First Return Group – Ezra 1:1 – 2:70</a:t>
            </a: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Bernard MT Condensed"/>
              </a:rPr>
              <a:t>The Altar is Built</a:t>
            </a: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Bernard MT Condensed"/>
              </a:rPr>
              <a:t>Sacrifices Begin</a:t>
            </a: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Bernard MT Condensed"/>
              </a:rPr>
              <a:t>A Feast is Observed – Ezra 3:1-6</a:t>
            </a: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Bernard MT Condensed"/>
              </a:rPr>
              <a:t>Work is Begun on the Temple – Ezra 3:7 – 4:5</a:t>
            </a: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Bernard MT Condensed"/>
              </a:rPr>
              <a:t>Work on the Temple is Stopped – Ezra 4:6-24</a:t>
            </a: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Bernard MT Condensed"/>
              </a:rPr>
              <a:t>The Work of Haggai and Zachariah</a:t>
            </a:r>
            <a:endParaRPr b="0" lang="en-US" sz="3000" spc="-1" strike="noStrike">
              <a:solidFill>
                <a:srgbClr val="000000"/>
              </a:solidFill>
              <a:latin typeface="Bernard MT Condensed"/>
            </a:endParaRPr>
          </a:p>
        </p:txBody>
      </p:sp>
    </p:spTree>
  </p:cSld>
  <p:transition>
    <p:plus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4:51:35Z</dcterms:created>
  <dc:creator>Terry W. Benton</dc:creator>
  <dc:description/>
  <dc:language>en-US</dc:language>
  <cp:lastModifiedBy>Frank D Vines</cp:lastModifiedBy>
  <dcterms:modified xsi:type="dcterms:W3CDTF">2006-05-21T19:10:26Z</dcterms:modified>
  <cp:revision>3</cp:revision>
  <dc:subject/>
  <dc:title>A Remnant Shall Retur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